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BE9-1BE1-4D14-8123-4BF28011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B0F-4E9F-455D-95D7-86D37CB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4B0-D357-4D03-8E12-2959C70D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FB8-DA2A-46D9-B5FE-CCA7B226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6142-E72A-49EB-B60A-2AFDF590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0E38-C2FC-4013-85A2-B97DF9B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C2F9-DC38-45AF-93EB-8EE2A1F9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D703-3A41-40AF-A97F-4E33191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C424-A524-40A1-850E-75EB311B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86A-4396-45B5-8E36-0BE3C9CF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A4E-398E-417B-8F1E-24DA75A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C2A-AA60-422C-A56F-2A1A853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1F1D-4E62-4A78-9A47-004B244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1AEC-EC8B-4869-9373-7AA196E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151B-6E81-4331-A69B-40C34C0E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822-2337-4E6F-8040-E4D02547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D67-AC0C-4D8E-994A-103E075A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661-4C29-4A41-8ABA-66C41D9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797-4BC0-4832-9AC2-AAB7431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865-FED8-429F-BA35-AEC7E92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91B-8DBA-47B8-8A71-847CAC07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8AD-A54D-4CA1-BD39-2A60F12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822-4369-483A-A079-C280EF2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9BC-BD99-4D0C-A1FB-3C6EC4E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91D6-AAE0-4F16-87DE-95FBB5B309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73C-A84A-44BC-AB0C-D75170B047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ГУ "ЦЕНТР СПОРТИВНОЙ ПОДГОТОВКИ СБОРНЫХ КОМАНД РОССИИ"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эстафетному бе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-11.09.2016 г.                                          г. Адлер ст. «Ю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емпионат России мужчины и женщины, первенство России среди юниоров и юниорок до 20 лет, юношей и девушек до 18 ле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эстафетному бегу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ЛАВНАЯ СУДЕЙСКАЯ КОЛЛЕГИЯ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26920" y="1989000"/>
          <a:ext cx="7777440" cy="3532320"/>
        </p:xfrm>
        <a:graphic>
          <a:graphicData uri="http://schemas.openxmlformats.org/drawingml/2006/table">
            <a:tbl>
              <a:tblPr/>
              <a:tblGrid>
                <a:gridCol w="2725920"/>
                <a:gridCol w="2652840"/>
                <a:gridCol w="450720"/>
                <a:gridCol w="194796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Каза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делегат ВФ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Клочк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гогр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Ш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. П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есп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кад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Сокольц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Болдыр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-на-Д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6-09-09T09:45:50Z</cp:lastPrinted>
  <dcterms:modified xsi:type="dcterms:W3CDTF">2016-09-09T10:05:14Z</dcterms:modified>
  <cp:revision>30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